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30A-F83A-4095-A3C3-A778F587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09F-70CC-4359-9386-088CC4D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A96-597E-49AA-80A1-5AB3A751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18-8A12-4C8A-A272-52DBABBD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9AC-52FE-4089-BE42-24A0657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A7F-1D65-4043-A42D-BA5808F9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8FB-DAD7-4A75-8373-508FBE2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D67-1B34-423E-BC5A-CEB4548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FFC-870E-4DCE-9F0D-9E2DDFC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A54-1776-4ACB-8BEF-24897F3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907-E9E2-45BD-863F-A4A2EF16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060-86FB-4B4D-A7E1-BEC5A91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034-121D-4741-B17B-63BDB65BD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57168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90720"/>
            <a:ext cx="34448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ا أيها الشعبُ السع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سُرّوا بذا الفِصحِ الم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ذا لكم عهدٌ جد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للــويـــا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"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طوبى لِمَنْ لَم يُبصِروا   وآمنوا واستغفروا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يقولُ ربٌ ظافِرُ  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22860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مدُ للهِ الغَفورْ         ذا فِصْحُنا عيدُ السر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قى على مرِّ الدهور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080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4382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ُشرى تَصيحُ المَريماتْ    فيها حياةُ الكائنا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بُ قامَ مِنَ الممات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10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َلَكٌ من العَلْيا بشيرْ        قد دحرجَ الحَجَرَ الكب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 قامَ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ولانا القديرْ                هللــويـ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04920"/>
            <a:ext cx="365760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َريمُ خَلّي النّحيبْ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قد قامَ فادينا الحبيب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العِزِّ والنّصرِ العجيبْ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438280" cy="9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ذْ كانتِ الرُسلُ الكرامْ      من دونِ توما في التِئ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طاهُمُ الربُ السلامْ               هللــ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368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2004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ذ بلّغوا توما الخَبرْ        فَلِقَوْلِهمْ ذا ما اعتبَ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ى له الفادي ظهرْ               هللــويـــا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057400" cy="11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ْ قالَ يا توما العنيدْ     انظرْ ودَعْ شَكاً يُبيد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ثبُت بإيمانٍ وطيدْ               هلل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36920" y="0"/>
            <a:ext cx="6607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 لم ترَ لا تعتقد        فكأنّ قولي لَمْ يُفِ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لِضَعفِكَ مُفْتَقِدْ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266688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ما رأى توما المسيح    وشاهَدَ جِسمَ الذّب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الَ إلهي!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للجريح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34:41Z</dcterms:created>
  <dc:creator>SUZANNE.MD</dc:creator>
  <dc:description/>
  <dc:language>en-US</dc:language>
  <cp:lastModifiedBy>HANI SAFI</cp:lastModifiedBy>
  <dcterms:modified xsi:type="dcterms:W3CDTF">2003-04-16T14:06:36Z</dcterms:modified>
  <cp:revision>1</cp:revision>
  <dc:subject/>
  <dc:title>PowerPoint Presentation</dc:title>
</cp:coreProperties>
</file>